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7425-3CE6-4783-AC87-025080D6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1E66-A863-46B7-BE8B-EFB4305C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8102-B02A-4866-81CB-9B7285303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A5B0-24E2-43E8-81C0-F11C297B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7471-9D4A-407E-BEDF-4F7D3D84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F882-D47B-4192-ACC4-D214EFE1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3ADD-EEA4-40D1-9900-5943DFE0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097C-C566-432F-A6C1-2522C5AC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4464-0032-4BCD-BCE3-F81A3FA8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3627-E5C8-4C73-933D-9BC13D96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9FF1-359A-4E61-A380-0F0791E8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6CD0-BB2A-43A7-A4EE-C54A3F48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256D-6A4D-439C-9D9D-AF651E40E36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383A5C05-CDB4-4969-85D0-D8884D12486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31800" y="1643040"/>
            <a:ext cx="78390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. 27.60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ἐθηκ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αὐτο ἐν τῳ καινῳ αὐτου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νημειῳ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e plac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him in his new tom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s 20.35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μακαριον ἐστιν μαλλο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διδοναι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ἠ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αμβανε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is more blesse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g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an to rece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v. 3.20: 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ἰδου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ἑστηκ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ἐπι την θυραν και κρουω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hold,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 sta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t the door and kn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04898832-1B83-4889-BA49-BDC39C3DAD1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61800" y="1428840"/>
            <a:ext cx="842040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ms marked † conjugate identically to the corresponding part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nce the Perfect Active is used for a Present intransitive meaning, the Pluperfect Active (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ἱστηκει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†) is used for an Imperfect intransitive mea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ἱστημ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s both a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d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orist, watch the forms of the participles (and the other moods) - 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ἱστα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Present Participle)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τησα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uffix -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orist Participle – transitive)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τα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no suffix -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orist Participle – intransitiv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E773E79C-3E61-4C0D-ABC6-7CCE27F9E05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68120" y="1128600"/>
            <a:ext cx="8961480" cy="51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itiv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k 9.36: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και λαβων παιδιον </a:t>
            </a:r>
            <a:r>
              <a:rPr b="0" lang="el-GR" sz="2200" spc="-1" strike="noStrike" u="sng">
                <a:solidFill>
                  <a:srgbClr val="ffffff"/>
                </a:solidFill>
                <a:uFillTx/>
                <a:latin typeface="Gentium"/>
              </a:rPr>
              <a:t>ἐστησεν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αὐτο ἐν μεσῳ αὐτω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taking a child 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tood hi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 their mid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tt. 25.33: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και </a:t>
            </a:r>
            <a:r>
              <a:rPr b="0" lang="el-GR" sz="2200" spc="-1" strike="noStrike" u="sng">
                <a:solidFill>
                  <a:srgbClr val="ffffff"/>
                </a:solidFill>
                <a:uFillTx/>
                <a:latin typeface="Gentium"/>
              </a:rPr>
              <a:t>στησει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τα μεν προβατα ἐκ δεξιων αὐτου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he will st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(or 'put') the sheep on his right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transi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tt. 20.32: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και </a:t>
            </a:r>
            <a:r>
              <a:rPr b="0" lang="el-GR" sz="2200" spc="-1" strike="noStrike" u="sng">
                <a:solidFill>
                  <a:srgbClr val="ffffff"/>
                </a:solidFill>
                <a:uFillTx/>
                <a:latin typeface="Gentium"/>
              </a:rPr>
              <a:t>στας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ὁ Ἰησους ἐφωνησαν αὐτους και εἰπεν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Jesu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stood sti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(lit: 'having stood') and called them and said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 Cor. 1.24: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συνεργοι ἐσμεν της χαρας ὑμων∙ τῃ γαρ πιστει </a:t>
            </a:r>
            <a:r>
              <a:rPr b="0" lang="el-GR" sz="2200" spc="-1" strike="noStrike" u="sng">
                <a:solidFill>
                  <a:srgbClr val="ffffff"/>
                </a:solidFill>
                <a:uFillTx/>
                <a:latin typeface="Gentium"/>
              </a:rPr>
              <a:t>ἑστηκατε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are fellow-workers of your joy, because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you st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the fai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C58D763B-845E-4F05-ABCC-484515C5DD6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714680" y="1316160"/>
            <a:ext cx="5715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9.1.4 The pattern of ending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46160" y="2643120"/>
          <a:ext cx="8858160" cy="3140280"/>
        </p:xfrm>
        <a:graphic>
          <a:graphicData uri="http://schemas.openxmlformats.org/drawingml/2006/table">
            <a:tbl>
              <a:tblPr/>
              <a:tblGrid>
                <a:gridCol w="1584360"/>
                <a:gridCol w="1455480"/>
                <a:gridCol w="1536840"/>
                <a:gridCol w="1477800"/>
                <a:gridCol w="1428840"/>
                <a:gridCol w="1374840"/>
              </a:tblGrid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unc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ημ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ημ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ωμ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η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η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ω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ῃ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ῃ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ῳ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ησ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ησ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ωσ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ε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α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ω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ω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ω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α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ο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η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η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ω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εασ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ασ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οασ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ωσ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ωσ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ωσ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189"/>
          <p:cNvSpPr/>
          <p:nvPr/>
        </p:nvSpPr>
        <p:spPr>
          <a:xfrm>
            <a:off x="2362320" y="19288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esent Act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2F592DC0-2F17-477B-83C3-7A5E2B61823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528720" y="12859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esent Act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7320" y="2057400"/>
          <a:ext cx="8915400" cy="3139920"/>
        </p:xfrm>
        <a:graphic>
          <a:graphicData uri="http://schemas.openxmlformats.org/drawingml/2006/table">
            <a:tbl>
              <a:tblPr/>
              <a:tblGrid>
                <a:gridCol w="1557360"/>
                <a:gridCol w="1571400"/>
                <a:gridCol w="1571760"/>
                <a:gridCol w="1191960"/>
                <a:gridCol w="1251000"/>
                <a:gridCol w="1771920"/>
              </a:tblGrid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εν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αν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ον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ετ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ατ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οτ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εις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–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σα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; 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m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εντ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α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ο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α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-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ς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-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m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αντ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ετωσ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ατωσ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οτωσ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ου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-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σ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-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em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οντ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FDFE7905-6BEE-4D30-8CEA-D03EB612062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43080" y="1500120"/>
            <a:ext cx="845820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Aorist Acti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icat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–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orist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θηκ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στησα, ἐδωκ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conjugates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ularly)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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ἱστημ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lso has intransitive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orist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στη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endings a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λυθη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ther Mood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– As in the Present but using the Verbal stem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.e. missing the initial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ι, δι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or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, except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.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ative which ar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ες, στηθι, δ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infinitives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ειναι, στηναι, δουνα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5"/>
          <p:cNvSpPr/>
          <p:nvPr/>
        </p:nvSpPr>
        <p:spPr>
          <a:xfrm flipV="1">
            <a:off x="342360" y="3981600"/>
            <a:ext cx="8458200" cy="1440"/>
          </a:xfrm>
          <a:prstGeom prst="line">
            <a:avLst/>
          </a:prstGeom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D8196D5C-C607-45EB-80F7-78CD79C18EC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371600" y="11224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9.1.5 Other similar verb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28520" y="1684440"/>
            <a:ext cx="8801280" cy="48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ἱημ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literally 'send' but only found in compounds such a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φιημ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I forgive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υνιημ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I understand) – This follows that same pattern a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ιθημ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with the Present stem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ἱε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Verbal stem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ἑ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Verbs in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υμ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(such a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δεικνυμ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I show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πολλυμ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I destroy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ῥηγνυμ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I break) – These have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verb endings in the Present Tense (with th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vowel dominating), but then use an altered stem for the other tenses along with the normal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υ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dings  (see the principal parts for the detail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φημι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Gentium"/>
              </a:rPr>
              <a:t>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(I  say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- This only appears in the following Indicative Active forms: Present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φημ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 say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φησι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he says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φασι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they say; Imperfect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φη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he sa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εἰμι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(I am)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If you look back at the Present of 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μ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will see that it has some similarities with the Present of the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verb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5703311E-B8BB-4E93-8AA0-2DFA8F85192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42920" y="1214280"/>
            <a:ext cx="8858160" cy="53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uke 5.21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ίς δυναται ἁμαρτιας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ἀφειναι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εἰ μη μονος ὁ θε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o is able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to forgiv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ins except God al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v. 2.4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λλα ἐχω κατα σου ὁτι την ἀγαπην σου την πρωτη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ἀφηκε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t I have (this) against you that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you abandon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your firs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o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tt. 4.7: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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φη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αὐτῳ ὁ Ἰησους∙ Παλιν γεγραπτα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esu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sai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o him, 'Again it is written …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as. 2.18: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δειξον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μοι την πιστιν σου χωρις των ἐργων, καγω σοι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δειξω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κ των ἐργων μου την πιστι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Show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e your faith without works, an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I will show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you m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aith through my work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31FCE2D6-FE42-4620-B595-FFB2E0EA0F7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181160" y="2233440"/>
            <a:ext cx="6781680" cy="22978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sent and Imperf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tractions tak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ther Ten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hort vowel length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30FAB272-1707-4DD9-98AA-446E8126821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50840" y="1865160"/>
          <a:ext cx="8840880" cy="3292560"/>
        </p:xfrm>
        <a:graphic>
          <a:graphicData uri="http://schemas.openxmlformats.org/drawingml/2006/table">
            <a:tbl>
              <a:tblPr/>
              <a:tblGrid>
                <a:gridCol w="1523880"/>
                <a:gridCol w="2210040"/>
                <a:gridCol w="2280960"/>
                <a:gridCol w="282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λε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-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lo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μα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-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honou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ηρο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-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fulfi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rt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y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ng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phthong or long drops ou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y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ᾳ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y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 tens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omes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omes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omes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728A4A9A-F072-4294-8A68-AD37FC042A8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80880" y="1643040"/>
            <a:ext cx="8305920" cy="39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resent infinitives of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d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verbs behave as if the Infinitive ending is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not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ι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henc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ιμα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ληρου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th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ing. Imperfect Active Indicative of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α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d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verbs the 'optional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' was not used. Thus the ending i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giving: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φιλει, ἐτιμα, ἐπληρου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few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verbs keep th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the other tenses e.g.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λεσ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C611CE11-188D-41BA-86E6-9D6D34FB898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838080" y="141588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9.1.1 Characteristics of </a:t>
            </a:r>
            <a:r>
              <a:rPr b="1" lang="en-GB" sz="3200" spc="-1" strike="noStrike">
                <a:solidFill>
                  <a:srgbClr val="ffffff"/>
                </a:solidFill>
                <a:latin typeface="Gentium"/>
              </a:rPr>
              <a:t>–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</a:rPr>
              <a:t>μι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85840" y="2581200"/>
          <a:ext cx="8529480" cy="2770200"/>
        </p:xfrm>
        <a:graphic>
          <a:graphicData uri="http://schemas.openxmlformats.org/drawingml/2006/table">
            <a:tbl>
              <a:tblPr/>
              <a:tblGrid>
                <a:gridCol w="1357200"/>
                <a:gridCol w="2428920"/>
                <a:gridCol w="2028960"/>
                <a:gridCol w="2714400"/>
              </a:tblGrid>
              <a:tr h="1267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Three 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μ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Verb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al 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Ste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for Present &amp; Imperfec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η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pl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ω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g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δ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ημ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cause to st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τ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στα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102679AB-473F-4B35-A5D1-EC6EC71EAD7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785880" y="1187280"/>
            <a:ext cx="5486400" cy="34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φιλε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 He was l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φιλημα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 I have been l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τιμ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 She was hono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ιμᾳ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 You are honou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714680" y="4143240"/>
            <a:ext cx="592920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ιμησ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 I will hon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ληρο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t is fulfi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ληρουτα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It is being fulfi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επληρωτα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It has been fulfi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D299ED63-0CD3-488F-8DEE-F692259ACC2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42920" y="1285920"/>
            <a:ext cx="8929800" cy="53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 Thes. 2.1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ἐρωτωμ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δε ὑμας, ἀδελφοι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,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e ask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you, brother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ph. 6.2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τιμ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τον πατερα σου και την μητερα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onou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your father and m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al. 2:20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ζω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δε οὐκετι ἐγω,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ζ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δε ἐν ἐμοι Χριστος∙ ὃ δε νυ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ζω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ν σαρκι, ἐν πιστε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ζω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τῃ του υἱου του θεου του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ἀγαπησαντο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με και παραδοντος ἑαυτον ὑπερ ἐμου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It is no longer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 who l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, but Chris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v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in me. Wha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w l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in flesh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 l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by faith in the son of Go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who lov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(lit: 'the one having loved') me and handed himself over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for 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821941BF-3E19-4E5E-A574-CE775188F60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-68400" y="244440"/>
            <a:ext cx="92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α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ω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214200" y="1428840"/>
            <a:ext cx="8715600" cy="47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. 12.16-17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ἐμετιμησ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αὐτοις ἱνα μη φανερον αὐτο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οιησωσιν, ἱν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πληρωθ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το ῥηθεν δια Ἠσαϊου του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ροφητου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e rebuk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m so that they would not make him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, in order that what was spoken through Isaiah th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phe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might be fulfill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 Tim. 3.16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ἐφανερωθη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ἐν σαρκι, ἐδικαιωθη ἐ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νευματ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..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o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as reveal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flesh, justified in spirit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9CB36327-6443-42FD-9295-B1E6F14D63E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14200" y="1214280"/>
            <a:ext cx="8929800" cy="33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resent stem is formed from the Verbal stem by a form of redupl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first consonant is repeated (or an 'h' sound for those beginning with vowels or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 together with an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 the difference between this and proper reduplication (for the Perfect) which uses an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vow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685800" y="4761000"/>
            <a:ext cx="7772400" cy="11149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-</a:t>
            </a:r>
            <a:r>
              <a:rPr b="0" lang="el-GR" sz="3500" spc="-1" strike="noStrike">
                <a:solidFill>
                  <a:srgbClr val="ffffff"/>
                </a:solidFill>
                <a:latin typeface="Gentium"/>
              </a:rPr>
              <a:t>μι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verbs the Present stem is longer than the Verbal 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30AA9F8C-24EE-4EE3-BB50-9753B1B17FA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98280" y="1176480"/>
            <a:ext cx="89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9.1.2 Parsing -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</a:rPr>
              <a:t>μι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verbs – the survival guid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52360" y="1801800"/>
          <a:ext cx="8534520" cy="4602240"/>
        </p:xfrm>
        <a:graphic>
          <a:graphicData uri="http://schemas.openxmlformats.org/drawingml/2006/table">
            <a:tbl>
              <a:tblPr/>
              <a:tblGrid>
                <a:gridCol w="4516560"/>
                <a:gridCol w="40179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st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stem + aug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al stem + 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ffi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Indicative (or 1</a:t>
                      </a:r>
                      <a:r>
                        <a:rPr b="0" lang="en-GB" sz="2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 Other Mood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al stem + augment + 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ffi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 Active Indic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al stem + augme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 Active Indicativ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al st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 Active Other Moo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al stem + 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ssive (+augment in Indicative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al stem + 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θης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Passiv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duplicated Verbal stem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ec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A323E4F4-E41A-401E-A65A-30042325CA6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41360" y="1428840"/>
            <a:ext cx="8229600" cy="41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διδωμι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τιθημι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both use a 1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orist in the Indicative, and a 2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orist in the Other Moods. Thus, Verbal stem plu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must be the Future Indicative (since there is no 1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orist Other Moods). For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ἱστημι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where there is a 1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orist in the Other Moods, the Future Indicative has to be distinguished by its endings, which are always the same as the Future Indicative of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λυω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reduplication in the Perfect is proper reduplication with an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ε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δεδο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-,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τεθε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-,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ἑστα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-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563E0FAE-A91B-41FE-9E9D-1F480A04BB8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280" y="1550880"/>
          <a:ext cx="8839440" cy="4822920"/>
        </p:xfrm>
        <a:graphic>
          <a:graphicData uri="http://schemas.openxmlformats.org/drawingml/2006/table">
            <a:tbl>
              <a:tblPr/>
              <a:tblGrid>
                <a:gridCol w="1368720"/>
                <a:gridCol w="2365200"/>
                <a:gridCol w="457200"/>
                <a:gridCol w="2563920"/>
                <a:gridCol w="331560"/>
                <a:gridCol w="1752840"/>
              </a:tblGrid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ιθετε</a:t>
                      </a: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Present st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Pres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you pla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θηκε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Verbal stem +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2nd Aorist Indicat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he plac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τιθεναι</a:t>
                      </a: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Present st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Pres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to place (Infinitive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θειναι</a:t>
                      </a: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Verbal st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2nd Aorist other Moo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to place (Infinitive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εδοτα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reduplic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Perfec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it has been giv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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ἱστας</a:t>
                      </a: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Present st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Pres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tanding (Participle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τας</a:t>
                      </a: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Verbal ste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2nd Aorist other Moo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having stood (Participle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ωσετε</a:t>
                      </a: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Verbal stem +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Future Indicat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you will g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στησεν</a:t>
                      </a: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Verbal stem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+ ε</a:t>
                      </a: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+ </a:t>
                      </a:r>
                      <a:r>
                        <a:rPr b="0" lang="el-GR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</a:t>
                      </a:r>
                      <a:r>
                        <a:rPr b="0" lang="en-GB" sz="21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1st Aorist Indic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he st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Text Box 195"/>
          <p:cNvSpPr/>
          <p:nvPr/>
        </p:nvSpPr>
        <p:spPr>
          <a:xfrm>
            <a:off x="152280" y="113364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AA247A58-958D-41AD-8505-A82702CCAA8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47600" y="1157400"/>
            <a:ext cx="885348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John 2.10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λεγει αὐτῳ∙ Πας ἀνθρωπος πρωτον τον καλον οἰνον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τιθησιν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nd he said to him, 'Every person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puts (out)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the fine wine 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irst …'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att. 12.18: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θησω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το πνευμα μου ἐπ’ αὐτ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I will plac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my spirit on hi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John 19.19: 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ἐγραψεν δε και τιτλον ὁ Πιλατος και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θηκεν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ἐπι του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ταυρ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ilate also wrote a notice and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place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(it) on the cro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2 Tim. 1.11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ς ὃ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τεθην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ἐγω κηρυξ και ἀποστολος και διδασκαλ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or which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I was appointe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 herald, and apostle and teach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806C08EF-71A8-43AA-9D7E-F8D225282B6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30320" y="1235160"/>
            <a:ext cx="891540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ph. 1.22: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και αὐτον </a:t>
            </a:r>
            <a:r>
              <a:rPr b="0" lang="el-GR" sz="2200" spc="-1" strike="noStrike" u="sng">
                <a:solidFill>
                  <a:srgbClr val="ffffff"/>
                </a:solidFill>
                <a:uFillTx/>
                <a:latin typeface="Gentium"/>
              </a:rPr>
              <a:t>ἐδωκεν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κεφαλην ὑπερ παντα τῃ ἐκκλησιᾳ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he gav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him as head (or 'made him head') over all things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churc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k 4.11: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ἐλεγεν αὐτοις∙ Ὑμιν το μυστηριον </a:t>
            </a:r>
            <a:r>
              <a:rPr b="0" lang="el-GR" sz="2200" spc="-1" strike="noStrike" u="sng">
                <a:solidFill>
                  <a:srgbClr val="ffffff"/>
                </a:solidFill>
                <a:uFillTx/>
                <a:latin typeface="Gentium"/>
              </a:rPr>
              <a:t>δεδοται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της βασιλειας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του θεο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said to them, 'The secret of the kingdom of God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has been</a:t>
            </a:r>
            <a:r>
              <a:rPr b="0" lang="el-GR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give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o you'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tt. 20.18: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και ὁ υἱος του ἀνθρωπου </a:t>
            </a:r>
            <a:r>
              <a:rPr b="0" lang="el-GR" sz="2200" spc="-1" strike="noStrike" u="sng">
                <a:solidFill>
                  <a:srgbClr val="ffffff"/>
                </a:solidFill>
                <a:uFillTx/>
                <a:latin typeface="Gentium"/>
              </a:rPr>
              <a:t>παραδοθησεται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τοις ἀρχιερευσιν</a:t>
            </a:r>
            <a:r>
              <a:rPr b="0" lang="en-GB" sz="22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.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the son of ma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will be handed ove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o the chief priest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 Pet. 3.15: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καθως και ὁ ἀγαπητος ἡμων ἀδελφος Παυλος κατα την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200" spc="-1" strike="noStrike" u="sng">
                <a:solidFill>
                  <a:srgbClr val="ffffff"/>
                </a:solidFill>
                <a:uFillTx/>
                <a:latin typeface="Gentium"/>
              </a:rPr>
              <a:t>δοθεισαν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 αὐτῳ σοφιαν ἐγραψεν ὑμι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ust as our beloved brother Paul also wrote to you according t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wisdom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give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o hi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9:Grammar </a:t>
            </a:r>
            <a:fld id="{5B5B4108-257C-4558-97BB-1D3ED5AFEB6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9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–μι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547640" y="11080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9.1.3 The meaning of 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</a:rPr>
              <a:t>ἱστημι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1360" y="1758960"/>
          <a:ext cx="8758440" cy="4486320"/>
        </p:xfrm>
        <a:graphic>
          <a:graphicData uri="http://schemas.openxmlformats.org/drawingml/2006/table">
            <a:tbl>
              <a:tblPr/>
              <a:tblGrid>
                <a:gridCol w="819000"/>
                <a:gridCol w="904320"/>
                <a:gridCol w="216000"/>
                <a:gridCol w="2443680"/>
                <a:gridCol w="2738520"/>
                <a:gridCol w="1636920"/>
              </a:tblGrid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f you want ..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n use ..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itive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cause to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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ἱστημ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cause to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τησ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caused to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στησ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ransitiv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ect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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ἑστηκ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Mid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τησομ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t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ither 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στη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 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σταθη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22:23:23Z</dcterms:created>
  <dc:creator>Sarah</dc:creator>
  <dc:description/>
  <dc:language>en-US</dc:language>
  <cp:lastModifiedBy>Sarah</cp:lastModifiedBy>
  <dcterms:modified xsi:type="dcterms:W3CDTF">2009-03-23T17:15:09Z</dcterms:modified>
  <cp:revision>67</cp:revision>
  <dc:subject/>
  <dc:title>Slide 1</dc:title>
</cp:coreProperties>
</file>